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30C4-E41C-4415-AA55-A65F142F6253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0.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cription of Conformance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3320" y="2057400"/>
            <a:ext cx="297252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b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527480" y="4570560"/>
            <a:ext cx="2279160" cy="1634760"/>
            <a:chOff x="1527480" y="4570560"/>
            <a:chExt cx="2279160" cy="1634760"/>
          </a:xfrm>
        </p:grpSpPr>
        <p:sp>
          <p:nvSpPr>
            <p:cNvPr id="116" name=""/>
            <p:cNvSpPr/>
            <p:nvPr/>
          </p:nvSpPr>
          <p:spPr>
            <a:xfrm>
              <a:off x="2440080" y="480060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27480" y="5562720"/>
              <a:ext cx="183132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</a:rPr>
                <a:t>Entitie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8" name=""/>
            <p:cNvCxnSpPr>
              <a:stCxn id="119" idx="2"/>
              <a:endCxn id="117" idx="0"/>
            </p:cNvCxnSpPr>
            <p:nvPr/>
          </p:nvCxnSpPr>
          <p:spPr>
            <a:xfrm flipV="1" rot="10800000">
              <a:off x="2442600" y="4570200"/>
              <a:ext cx="1080" cy="97848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</p:grpSp>
      <p:grpSp>
        <p:nvGrpSpPr>
          <p:cNvPr id="120" name=""/>
          <p:cNvGrpSpPr/>
          <p:nvPr/>
        </p:nvGrpSpPr>
        <p:grpSpPr>
          <a:xfrm>
            <a:off x="1310400" y="3733920"/>
            <a:ext cx="4377600" cy="794880"/>
            <a:chOff x="1310400" y="3733920"/>
            <a:chExt cx="4377600" cy="794880"/>
          </a:xfrm>
        </p:grpSpPr>
        <p:sp>
          <p:nvSpPr>
            <p:cNvPr id="119" name=""/>
            <p:cNvSpPr/>
            <p:nvPr/>
          </p:nvSpPr>
          <p:spPr>
            <a:xfrm>
              <a:off x="1310400" y="3886200"/>
              <a:ext cx="226548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BASE-CC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22" idx="1"/>
              <a:endCxn id="119" idx="3"/>
            </p:cNvCxnSpPr>
            <p:nvPr/>
          </p:nvCxnSpPr>
          <p:spPr>
            <a:xfrm rot="10800000">
              <a:off x="3604320" y="4220280"/>
              <a:ext cx="2083680" cy="108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23" name=""/>
            <p:cNvSpPr/>
            <p:nvPr/>
          </p:nvSpPr>
          <p:spPr>
            <a:xfrm>
              <a:off x="3888000" y="373392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718240" y="2741400"/>
            <a:ext cx="2584080" cy="1787400"/>
            <a:chOff x="5718240" y="2741400"/>
            <a:chExt cx="2584080" cy="1787400"/>
          </a:xfrm>
        </p:grpSpPr>
        <p:sp>
          <p:nvSpPr>
            <p:cNvPr id="122" name=""/>
            <p:cNvSpPr/>
            <p:nvPr/>
          </p:nvSpPr>
          <p:spPr>
            <a:xfrm>
              <a:off x="5718240" y="3886200"/>
              <a:ext cx="254304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Completed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5" name=""/>
            <p:cNvCxnSpPr>
              <a:stCxn id="114" idx="2"/>
              <a:endCxn id="122" idx="0"/>
            </p:cNvCxnSpPr>
            <p:nvPr/>
          </p:nvCxnSpPr>
          <p:spPr>
            <a:xfrm flipV="1" rot="10800000">
              <a:off x="6989040" y="2741400"/>
              <a:ext cx="1080" cy="113076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26" name=""/>
            <p:cNvSpPr/>
            <p:nvPr/>
          </p:nvSpPr>
          <p:spPr>
            <a:xfrm>
              <a:off x="6935760" y="304812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762120" y="2971800"/>
            <a:ext cx="1447560" cy="457200"/>
          </a:xfrm>
          <a:prstGeom prst="wedgeRoundRectCallout">
            <a:avLst>
              <a:gd name="adj1" fmla="val 80263"/>
              <a:gd name="adj2" fmla="val 142708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1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5181480"/>
            <a:ext cx="2362320" cy="457200"/>
          </a:xfrm>
          <a:prstGeom prst="wedgeRoundRectCallout">
            <a:avLst>
              <a:gd name="adj1" fmla="val 41129"/>
              <a:gd name="adj2" fmla="val -182291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123 + CC1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905120"/>
            <a:ext cx="3733920" cy="457200"/>
          </a:xfrm>
          <a:prstGeom prst="wedgeRoundRectCallout">
            <a:avLst>
              <a:gd name="adj1" fmla="val 78740"/>
              <a:gd name="adj2" fmla="val 109375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53 + CC123 + CC1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6095880"/>
            <a:ext cx="1295280" cy="457200"/>
          </a:xfrm>
          <a:prstGeom prst="wedgeRoundRectCallout">
            <a:avLst>
              <a:gd name="adj1" fmla="val -109314"/>
              <a:gd name="adj2" fmla="val -6006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e as needed from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ple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by a list of BASE-CC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entity can be repeatedly included at multiple levels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nn diagram nes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Huge number of possible combinatio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Why so complex?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alid Subse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ompleted CC simply defines a subset of the LPM that is logically valid to instant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usefu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(that) meaning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is large and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many valid subsets are possib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verall scope of a particular translator corresponds to a particular CC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rrectly translat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data within that valid sub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entity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(non OPTIONAL)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translator provide user control for exporting or importing lesser valid sco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are when scoping a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41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49453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4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5705640"/>
            <a:ext cx="274320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96"/>
              <a:gd name="adj5" fmla="val -253282"/>
              <a:gd name="adj6" fmla="val -5172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pplication ful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19320" y="365760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56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763"/>
                <a:gd name="adj5" fmla="val 51569"/>
                <a:gd name="adj6" fmla="val -515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59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548640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1676520"/>
            <a:ext cx="266724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513"/>
              <a:gd name="adj5" fmla="val 451407"/>
              <a:gd name="adj6" fmla="val -2886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pplication only part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et CC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 fully populated with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71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50509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7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concept of Conformance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s documented in the CIS/2 Beta Rel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80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888"/>
                <a:gd name="adj5" fmla="val 49453"/>
                <a:gd name="adj6" fmla="val -52013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83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791320" y="5791320"/>
            <a:ext cx="281916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45"/>
              <a:gd name="adj5" fmla="val -37870"/>
              <a:gd name="adj6" fmla="val -5168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eat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 data full populates CC scope of import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S dat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xceed CC scope of translato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9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334120" y="551340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2041"/>
              <a:gd name="adj5" fmla="val -256805"/>
              <a:gd name="adj6" fmla="val -4659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full CC scope of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DEAL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gic able to import, in isolation, each within-scope completed BASE-CC!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im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20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5715000"/>
            <a:ext cx="26668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810"/>
              <a:gd name="adj5" fmla="val -356648"/>
              <a:gd name="adj6" fmla="val -30287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05520" y="175248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5194"/>
              <a:gd name="adj5" fmla="val 393347"/>
              <a:gd name="adj6" fmla="val -61226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and Impor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data CIS data igno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pplication must be able to store and manipulate any such subs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Beta Documentat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E-CCs Explained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for each non-abstract entity in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 entities are not instanc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SE-CC for each base-entity built from the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-in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ntities it references direc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-in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ntities that must point at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11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licit inverse relationships with no zero cardin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eritance requires relationships to any super-types to be conside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-CCs where generated automatically from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rules whe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nsider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“valid subset” results from recursively pulling-in entities until the list is s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ase entity may have many valid subse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ntity Pull-in Rul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341520" y="2460600"/>
            <a:ext cx="2633760" cy="1747800"/>
            <a:chOff x="3341520" y="2460600"/>
            <a:chExt cx="2633760" cy="1747800"/>
          </a:xfrm>
        </p:grpSpPr>
        <p:sp>
          <p:nvSpPr>
            <p:cNvPr id="227" name=""/>
            <p:cNvSpPr/>
            <p:nvPr/>
          </p:nvSpPr>
          <p:spPr>
            <a:xfrm>
              <a:off x="4067280" y="2460600"/>
              <a:ext cx="954000" cy="47772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21280" y="3732120"/>
              <a:ext cx="954000" cy="4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545000" y="293832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3341520" y="3254040"/>
              <a:ext cx="160560" cy="477720"/>
              <a:chOff x="3341520" y="3254040"/>
              <a:chExt cx="160560" cy="477720"/>
            </a:xfrm>
          </p:grpSpPr>
          <p:sp>
            <p:nvSpPr>
              <p:cNvPr id="231" name=""/>
              <p:cNvSpPr/>
              <p:nvPr/>
            </p:nvSpPr>
            <p:spPr>
              <a:xfrm flipV="1">
                <a:off x="3431520" y="325404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341520" y="355284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5398920" y="3279600"/>
              <a:ext cx="158760" cy="478080"/>
              <a:chOff x="5398920" y="3279600"/>
              <a:chExt cx="158760" cy="478080"/>
            </a:xfrm>
          </p:grpSpPr>
          <p:sp>
            <p:nvSpPr>
              <p:cNvPr id="234" name=""/>
              <p:cNvSpPr/>
              <p:nvPr/>
            </p:nvSpPr>
            <p:spPr>
              <a:xfrm flipV="1">
                <a:off x="5488200" y="3279600"/>
                <a:ext cx="0" cy="4780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398920" y="357804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3432240" y="325440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846600" y="5002200"/>
            <a:ext cx="95256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935000" y="3732120"/>
            <a:ext cx="2451240" cy="1746360"/>
            <a:chOff x="1935000" y="3732120"/>
            <a:chExt cx="2451240" cy="1746360"/>
          </a:xfrm>
        </p:grpSpPr>
        <p:sp>
          <p:nvSpPr>
            <p:cNvPr id="239" name=""/>
            <p:cNvSpPr/>
            <p:nvPr/>
          </p:nvSpPr>
          <p:spPr>
            <a:xfrm>
              <a:off x="2955960" y="3732120"/>
              <a:ext cx="950760" cy="47628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432240" y="4208040"/>
              <a:ext cx="0" cy="3193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35000" y="5002200"/>
              <a:ext cx="954360" cy="4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4226040" y="4527720"/>
              <a:ext cx="160200" cy="474480"/>
              <a:chOff x="4226040" y="4527720"/>
              <a:chExt cx="160200" cy="474480"/>
            </a:xfrm>
          </p:grpSpPr>
          <p:sp>
            <p:nvSpPr>
              <p:cNvPr id="243" name=""/>
              <p:cNvSpPr/>
              <p:nvPr/>
            </p:nvSpPr>
            <p:spPr>
              <a:xfrm flipV="1">
                <a:off x="4316040" y="4527720"/>
                <a:ext cx="0" cy="4744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226040" y="4824000"/>
                <a:ext cx="160200" cy="1580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2317680" y="4527720"/>
              <a:ext cx="160560" cy="474480"/>
              <a:chOff x="2317680" y="4527720"/>
              <a:chExt cx="160560" cy="474480"/>
            </a:xfrm>
          </p:grpSpPr>
          <p:sp>
            <p:nvSpPr>
              <p:cNvPr id="246" name=""/>
              <p:cNvSpPr/>
              <p:nvPr/>
            </p:nvSpPr>
            <p:spPr>
              <a:xfrm flipV="1">
                <a:off x="2407680" y="4527720"/>
                <a:ext cx="0" cy="4744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317680" y="4824000"/>
                <a:ext cx="160560" cy="1580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 flipH="1">
              <a:off x="2411280" y="4527720"/>
              <a:ext cx="188784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804920" y="5010120"/>
            <a:ext cx="2224440" cy="476280"/>
            <a:chOff x="4804920" y="5010120"/>
            <a:chExt cx="2224440" cy="476280"/>
          </a:xfrm>
        </p:grpSpPr>
        <p:sp>
          <p:nvSpPr>
            <p:cNvPr id="250" name=""/>
            <p:cNvSpPr/>
            <p:nvPr/>
          </p:nvSpPr>
          <p:spPr>
            <a:xfrm>
              <a:off x="6078600" y="501012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804920" y="5254560"/>
              <a:ext cx="12733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918040" y="5170320"/>
              <a:ext cx="16056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828800" y="2438280"/>
            <a:ext cx="2209680" cy="527040"/>
            <a:chOff x="1828800" y="2438280"/>
            <a:chExt cx="2209680" cy="527040"/>
          </a:xfrm>
        </p:grpSpPr>
        <p:sp>
          <p:nvSpPr>
            <p:cNvPr id="254" name=""/>
            <p:cNvSpPr/>
            <p:nvPr/>
          </p:nvSpPr>
          <p:spPr>
            <a:xfrm flipH="1">
              <a:off x="2765520" y="2730600"/>
              <a:ext cx="12729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79720" y="2644920"/>
              <a:ext cx="158760" cy="1587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28800" y="2490840"/>
              <a:ext cx="954000" cy="4744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25520" y="24382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V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549440" y="1943280"/>
            <a:ext cx="5753160" cy="4132080"/>
            <a:chOff x="1549440" y="1943280"/>
            <a:chExt cx="5753160" cy="4132080"/>
          </a:xfrm>
        </p:grpSpPr>
        <p:sp>
          <p:nvSpPr>
            <p:cNvPr id="259" name=""/>
            <p:cNvSpPr/>
            <p:nvPr/>
          </p:nvSpPr>
          <p:spPr>
            <a:xfrm>
              <a:off x="1549440" y="1943280"/>
              <a:ext cx="1523880" cy="1541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68680" y="4508640"/>
              <a:ext cx="1523880" cy="1541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78360" y="4533840"/>
              <a:ext cx="152424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 reference to an entity that is external to that BASE-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ise due to “dangling” multiple-choice references v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BSTRACT super-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ELECT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5105520" y="3297240"/>
            <a:ext cx="3019320" cy="1270080"/>
            <a:chOff x="5105520" y="3297240"/>
            <a:chExt cx="3019320" cy="1270080"/>
          </a:xfrm>
        </p:grpSpPr>
        <p:sp>
          <p:nvSpPr>
            <p:cNvPr id="269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6694560" y="329724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5491080" y="3612960"/>
              <a:ext cx="160560" cy="477720"/>
              <a:chOff x="5491080" y="3612960"/>
              <a:chExt cx="160560" cy="477720"/>
            </a:xfrm>
          </p:grpSpPr>
          <p:sp>
            <p:nvSpPr>
              <p:cNvPr id="272" name=""/>
              <p:cNvSpPr/>
              <p:nvPr/>
            </p:nvSpPr>
            <p:spPr>
              <a:xfrm flipV="1">
                <a:off x="5581080" y="36129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491080" y="391176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7548480" y="3638160"/>
              <a:ext cx="158760" cy="477720"/>
              <a:chOff x="7548480" y="3638160"/>
              <a:chExt cx="158760" cy="477720"/>
            </a:xfrm>
          </p:grpSpPr>
          <p:sp>
            <p:nvSpPr>
              <p:cNvPr id="275" name=""/>
              <p:cNvSpPr/>
              <p:nvPr/>
            </p:nvSpPr>
            <p:spPr>
              <a:xfrm flipV="1">
                <a:off x="7637760" y="36381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48480" y="393696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5581800" y="361332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80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81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83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5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447920" y="2286000"/>
            <a:ext cx="4876560" cy="2824200"/>
            <a:chOff x="1447920" y="2286000"/>
            <a:chExt cx="4876560" cy="2824200"/>
          </a:xfrm>
        </p:grpSpPr>
        <p:sp>
          <p:nvSpPr>
            <p:cNvPr id="288" name=""/>
            <p:cNvSpPr/>
            <p:nvPr/>
          </p:nvSpPr>
          <p:spPr>
            <a:xfrm>
              <a:off x="144792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70840" y="4091040"/>
            <a:ext cx="954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694560" y="3297240"/>
            <a:ext cx="0" cy="3160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91080" y="3612960"/>
            <a:ext cx="160560" cy="477720"/>
            <a:chOff x="5491080" y="3612960"/>
            <a:chExt cx="160560" cy="477720"/>
          </a:xfrm>
        </p:grpSpPr>
        <p:sp>
          <p:nvSpPr>
            <p:cNvPr id="296" name=""/>
            <p:cNvSpPr/>
            <p:nvPr/>
          </p:nvSpPr>
          <p:spPr>
            <a:xfrm flipV="1">
              <a:off x="5581080" y="36129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491080" y="3911760"/>
              <a:ext cx="1605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7548480" y="3638160"/>
            <a:ext cx="158760" cy="477720"/>
            <a:chOff x="7548480" y="3638160"/>
            <a:chExt cx="158760" cy="477720"/>
          </a:xfrm>
        </p:grpSpPr>
        <p:sp>
          <p:nvSpPr>
            <p:cNvPr id="299" name=""/>
            <p:cNvSpPr/>
            <p:nvPr/>
          </p:nvSpPr>
          <p:spPr>
            <a:xfrm flipV="1">
              <a:off x="7637760" y="36381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8480" y="3936960"/>
              <a:ext cx="1587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5581800" y="3613320"/>
            <a:ext cx="20635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05520" y="4091040"/>
            <a:ext cx="95076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304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305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307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9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96160" y="356868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317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319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71600" y="2286000"/>
            <a:ext cx="4952880" cy="2824200"/>
            <a:chOff x="1371600" y="2286000"/>
            <a:chExt cx="4952880" cy="2824200"/>
          </a:xfrm>
        </p:grpSpPr>
        <p:sp>
          <p:nvSpPr>
            <p:cNvPr id="327" name=""/>
            <p:cNvSpPr/>
            <p:nvPr/>
          </p:nvSpPr>
          <p:spPr>
            <a:xfrm>
              <a:off x="137160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330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333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340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342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7160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05520" y="3568680"/>
            <a:ext cx="152424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352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355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8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be “completed” to create a valid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oices for completing them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S/2 Beta define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or satisfy dangling relationships by adding in selected    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ules derived (by hand) from the EXPRESS for each type of dangling re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ERE Ru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s-defined, BASE-CCs d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llow for the existence of any WHERE rules that require the co-existence of entities from different BASE-C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ome WHRE rules will require some BASE-CCs to be used in combination, effective reducing the number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ASE-C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ncomplete BASE-CC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ic Concept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 borrowed from ISO10303 (STE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ogical subse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pecify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ll entities within must be supported in ful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in the CIS/2 docu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of each CC is derived logically from the EXPRESS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number of 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hey can be used in combina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which CCs to u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e 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cumentation defines 545 BASE-CC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 “based-on” a different ent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s other “included entiti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efined, each BASE-CCs is either   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Incompl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must be “completed” prior to us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158480" y="2514600"/>
            <a:ext cx="5641920" cy="2319120"/>
            <a:chOff x="1158480" y="2514600"/>
            <a:chExt cx="5641920" cy="2319120"/>
          </a:xfrm>
        </p:grpSpPr>
        <p:cxnSp>
          <p:nvCxnSpPr>
            <p:cNvPr id="77" name=""/>
            <p:cNvCxnSpPr>
              <a:stCxn id="78" idx="2"/>
              <a:endCxn id="79" idx="0"/>
            </p:cNvCxnSpPr>
            <p:nvPr/>
          </p:nvCxnSpPr>
          <p:spPr>
            <a:xfrm rot="5400000">
              <a:off x="2448720" y="3039840"/>
              <a:ext cx="978480" cy="1296360"/>
            </a:xfrm>
            <a:prstGeom prst="bentConnector3">
              <a:avLst>
                <a:gd name="adj1" fmla="val 49981"/>
              </a:avLst>
            </a:prstGeom>
            <a:ln w="28440">
              <a:solidFill>
                <a:srgbClr val="cc0000"/>
              </a:solidFill>
              <a:miter/>
            </a:ln>
          </p:spPr>
        </p:cxnSp>
        <p:grpSp>
          <p:nvGrpSpPr>
            <p:cNvPr id="80" name=""/>
            <p:cNvGrpSpPr/>
            <p:nvPr/>
          </p:nvGrpSpPr>
          <p:grpSpPr>
            <a:xfrm>
              <a:off x="1158480" y="2514600"/>
              <a:ext cx="5641920" cy="2319120"/>
              <a:chOff x="1158480" y="2514600"/>
              <a:chExt cx="5641920" cy="2319120"/>
            </a:xfrm>
          </p:grpSpPr>
          <p:sp>
            <p:nvSpPr>
              <p:cNvPr id="78" name=""/>
              <p:cNvSpPr/>
              <p:nvPr/>
            </p:nvSpPr>
            <p:spPr>
              <a:xfrm>
                <a:off x="2453400" y="2514600"/>
                <a:ext cx="2265480" cy="6426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BASE-CC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158480" y="4191120"/>
                <a:ext cx="2264040" cy="64260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ff00"/>
                    </a:solidFill>
                    <a:latin typeface="Arial"/>
                  </a:rPr>
                  <a:t>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07320" y="4191120"/>
                <a:ext cx="2593080" cy="642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Arial"/>
                  </a:rPr>
                  <a:t>In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2" name=""/>
              <p:cNvCxnSpPr>
                <a:stCxn id="78" idx="2"/>
                <a:endCxn id="81" idx="0"/>
              </p:cNvCxnSpPr>
              <p:nvPr/>
            </p:nvCxnSpPr>
            <p:spPr>
              <a:xfrm flipH="1" rot="16200000">
                <a:off x="4055400" y="2728800"/>
                <a:ext cx="978480" cy="1918440"/>
              </a:xfrm>
              <a:prstGeom prst="bentConnector3">
                <a:avLst>
                  <a:gd name="adj1" fmla="val 49981"/>
                </a:avLst>
              </a:prstGeom>
              <a:ln w="28440">
                <a:solidFill>
                  <a:srgbClr val="cc0000"/>
                </a:solidFill>
                <a:miter/>
              </a:ln>
            </p:spPr>
          </p:cxnSp>
        </p:grpSp>
      </p:grpSp>
      <p:grpSp>
        <p:nvGrpSpPr>
          <p:cNvPr id="83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84" name=""/>
            <p:cNvCxnSpPr>
              <a:stCxn id="81" idx="3"/>
              <a:endCxn id="78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85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53400" y="2514600"/>
            <a:ext cx="226548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-C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58480" y="4191120"/>
            <a:ext cx="2264040" cy="64260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07320" y="4191120"/>
            <a:ext cx="25930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n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6" idx="2"/>
            <a:endCxn id="97" idx="0"/>
          </p:cNvCxnSpPr>
          <p:nvPr/>
        </p:nvCxnSpPr>
        <p:spPr>
          <a:xfrm rot="5400000">
            <a:off x="2448720" y="3039840"/>
            <a:ext cx="978480" cy="129636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cxnSp>
        <p:nvCxnSpPr>
          <p:cNvPr id="100" name=""/>
          <p:cNvCxnSpPr>
            <a:stCxn id="96" idx="2"/>
            <a:endCxn id="98" idx="0"/>
          </p:cNvCxnSpPr>
          <p:nvPr/>
        </p:nvCxnSpPr>
        <p:spPr>
          <a:xfrm flipH="1" rot="16200000">
            <a:off x="4055400" y="2728800"/>
            <a:ext cx="978480" cy="191844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grpSp>
        <p:nvGrpSpPr>
          <p:cNvPr id="101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102" name=""/>
            <p:cNvCxnSpPr>
              <a:stCxn id="98" idx="3"/>
              <a:endCxn id="96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03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3T00:35:22Z</dcterms:modified>
  <cp:revision>35</cp:revision>
  <dc:subject/>
  <dc:title>AISC CIS/2  Workshop #I</dc:title>
</cp:coreProperties>
</file>